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5AA-86DC-4F39-97D6-E3E12F3D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F4F-9310-4360-88C7-58EF131F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B32-BD26-44CE-9736-B5862B04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654-2521-4AD7-BD05-D4D2A888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E97D-13E5-4F40-BC91-36DC3382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4032-AF34-493B-A715-D0104F3F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BE70-37F5-4CB7-A425-83EB5BF3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9F93-BD12-48B8-97EF-C108CD47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BD0B-0C39-4905-8A17-E0842906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7B1E-3536-426B-8AA4-5DAFE1F5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EAB0-29BF-4A5A-9E24-A586D6DE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D32-8D7B-4A4F-8FC8-232A26A8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15D2-F517-422C-AD36-A56F593A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4FCC-D97D-4B3E-88A3-056CAA25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EDC6-CFFF-4BDB-A0D5-1303A89B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3B0B-57AF-4F0B-AB97-E8E1CBCB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DFDA-DA3F-4428-BDFF-A45E5715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29F-472D-48CD-BBBD-74E73BA1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DE1-46DB-4B1A-A3B1-0603A1F4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D3A-5B83-4718-B0B6-23D1A526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7AB-AC8A-4536-8216-9164A4A9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92E-5746-4809-9859-E91C0708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D0F-8940-449A-8B1A-3E4C4E6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8BD-1381-4850-9ACE-4D5E0229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2904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7F1A-FC10-4077-8AFC-E144010EAB8F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392C-114C-4657-8E94-DBCFF1D1E607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6019920"/>
            <a:ext cx="1447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2" action="ppaction://hlinksldjump"/>
              </a:rPr>
              <a:t>Pair wor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205160"/>
            <a:ext cx="1371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3" action="ppaction://hlinksldjump"/>
              </a:rPr>
              <a:t>Gramma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11480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4" action="ppaction://hlinksldjump"/>
              </a:rPr>
              <a:t>Group wor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819520"/>
            <a:ext cx="167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5" action="ppaction://hlinksldjump"/>
              </a:rPr>
              <a:t>First&amp;La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0100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 Rounded MT Bold"/>
              </a:rPr>
              <a:t>Word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4343400" y="56386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3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What’s your name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35812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Francisco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Hi,Mary.I’m Ji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Hello.I’m M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33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My name’s Jenn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57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I’m Gina.Nice to 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　</a:t>
            </a: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meet you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00200" y="1295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What’s your name?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18288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Francisco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41316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Hi,Mary.I’m Jim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8036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Hello.I’m Mary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43876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My name’s Jenny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93704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I’m Gina.Nice to meet you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3520" y="33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Pair work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304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GRAMMAR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1430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Berlin Sans FB Demi"/>
              </a:rPr>
              <a:t>Questions &amp; Answers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1905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your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611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his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114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His name’s Tony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483084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her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5334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Her name’s Gina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666880"/>
            <a:ext cx="71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4382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My name’s Jenny.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’m Jenny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914400"/>
            <a:ext cx="3048120" cy="4191120"/>
          </a:xfrm>
          <a:prstGeom prst="cloudCallout">
            <a:avLst>
              <a:gd name="adj1" fmla="val -63856"/>
              <a:gd name="adj2" fmla="val 5897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What’s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What is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I’m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I am 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ame’s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ame is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334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First name &amp; last name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386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Name = First name + Last nam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352680" y="1905120"/>
            <a:ext cx="7162920" cy="901440"/>
            <a:chOff x="3352680" y="1905120"/>
            <a:chExt cx="7162920" cy="901440"/>
          </a:xfrm>
        </p:grpSpPr>
        <p:sp>
          <p:nvSpPr>
            <p:cNvPr id="203" name=""/>
            <p:cNvSpPr/>
            <p:nvPr/>
          </p:nvSpPr>
          <p:spPr>
            <a:xfrm>
              <a:off x="3352680" y="228600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Arial Black"/>
                </a:rPr>
                <a:t>Given name     Family name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495680" y="1905120"/>
              <a:ext cx="0" cy="4572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467480" y="1905120"/>
              <a:ext cx="0" cy="4572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5486400" cy="3568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057400" y="57913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33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Group work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2716200"/>
            <a:ext cx="9144000" cy="4141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52280" y="3962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To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352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Lind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352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Be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05680" y="55008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Kat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3004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Ton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8730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Linda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01916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er name’s Linda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Ben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Kat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44792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er name’s Linda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Ben.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077320" y="19810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304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Words &amp; expressions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14300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name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字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称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姓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誉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t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命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提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叫出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指定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姓名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据以取名的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26668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first 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v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首先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初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优先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的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um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)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开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(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比赛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冠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452448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last 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临终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末尾的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v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后来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末尾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临终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鞋楦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95280" y="1752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er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她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她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808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y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我的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1035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r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你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你们的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2438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is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他的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295280" y="4570560"/>
            <a:ext cx="75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et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会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集会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适宜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合适的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316872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ook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视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脸色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面容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外表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i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意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朝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好象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显得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t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打量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视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用眼神表示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期待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380880"/>
            <a:ext cx="6019920" cy="914400"/>
            <a:chOff x="1143000" y="380880"/>
            <a:chExt cx="6019920" cy="914400"/>
          </a:xfrm>
        </p:grpSpPr>
        <p:sp>
          <p:nvSpPr>
            <p:cNvPr id="234" name=""/>
            <p:cNvSpPr/>
            <p:nvPr/>
          </p:nvSpPr>
          <p:spPr>
            <a:xfrm>
              <a:off x="2057400" y="515880"/>
              <a:ext cx="510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clock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时钟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143000" y="380880"/>
              <a:ext cx="88416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914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143000" y="1779480"/>
            <a:ext cx="8001000" cy="1116720"/>
            <a:chOff x="1143000" y="1779480"/>
            <a:chExt cx="8001000" cy="1116720"/>
          </a:xfrm>
        </p:grpSpPr>
        <p:sp>
          <p:nvSpPr>
            <p:cNvPr id="238" name=""/>
            <p:cNvSpPr/>
            <p:nvPr/>
          </p:nvSpPr>
          <p:spPr>
            <a:xfrm>
              <a:off x="2133720" y="1827000"/>
              <a:ext cx="701028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question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 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问题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疑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询问</a:t>
              </a:r>
              <a:br>
                <a:rPr sz="2800"/>
              </a:b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                    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v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询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审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怀疑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1143000" y="1779480"/>
              <a:ext cx="914400" cy="8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1143000" y="3200400"/>
            <a:ext cx="8001000" cy="990360"/>
            <a:chOff x="1143000" y="3200400"/>
            <a:chExt cx="8001000" cy="990360"/>
          </a:xfrm>
        </p:grpSpPr>
        <p:sp>
          <p:nvSpPr>
            <p:cNvPr id="241" name=""/>
            <p:cNvSpPr/>
            <p:nvPr/>
          </p:nvSpPr>
          <p:spPr>
            <a:xfrm>
              <a:off x="2133720" y="3352680"/>
              <a:ext cx="70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girl: 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女孩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少女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1143000" y="3200400"/>
              <a:ext cx="99072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1143000" y="4648320"/>
            <a:ext cx="8001000" cy="1066680"/>
            <a:chOff x="1143000" y="4648320"/>
            <a:chExt cx="8001000" cy="1066680"/>
          </a:xfrm>
        </p:grpSpPr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1143000" y="4648320"/>
              <a:ext cx="9493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133720" y="4876920"/>
              <a:ext cx="70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boy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男孩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儿子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孩子气的人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2:13:33Z</dcterms:created>
  <dc:creator>XuYing</dc:creator>
  <dc:description/>
  <dc:language>en-US</dc:language>
  <cp:lastModifiedBy>luomingjiang</cp:lastModifiedBy>
  <dcterms:modified xsi:type="dcterms:W3CDTF">2005-09-17T00:20:49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